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39840" y="0"/>
            <a:ext cx="7891560" cy="13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252440" cy="6845400"/>
          </a:xfrm>
          <a:prstGeom prst="rect">
            <a:avLst/>
          </a:prstGeom>
          <a:solidFill>
            <a:srgbClr val="e8a3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44440" y="3052800"/>
            <a:ext cx="763560" cy="7524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252360" y="5700600"/>
            <a:ext cx="831960" cy="425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206360" y="0"/>
            <a:ext cx="109440" cy="83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345960" y="6630840"/>
            <a:ext cx="68112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e8a300"/>
                </a:solidFill>
                <a:latin typeface="Arial"/>
                <a:ea typeface="Arial"/>
              </a:rPr>
              <a:t>C95016.</a:t>
            </a:r>
            <a:fld id="{BCE6AE2F-D93B-49F9-A009-F0A0D5D7FF11}" type="slidenum">
              <a:rPr b="0" lang="en-US" sz="800" spc="-1" strike="noStrike">
                <a:solidFill>
                  <a:srgbClr val="e8a3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6767640" y="6570720"/>
            <a:ext cx="236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l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9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ask Switching with the i960® Microprocess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veloped by: Tom John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viewed by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9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71720" y="100080"/>
            <a:ext cx="6818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57320" y="1709640"/>
            <a:ext cx="683244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/Return Mech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cessor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rupt Rec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ci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de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9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971720" y="100080"/>
            <a:ext cx="6818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all/Return Mech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523880"/>
            <a:ext cx="1371600" cy="487692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832880" y="5094360"/>
            <a:ext cx="1876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mory/Stack Grow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686800" y="2133720"/>
            <a:ext cx="305280" cy="2210040"/>
          </a:xfrm>
          <a:custGeom>
            <a:avLst/>
            <a:gdLst/>
            <a:ahLst/>
            <a:rect l="0" t="0" r="r" b="b"/>
            <a:pathLst>
              <a:path w="848" h="6139">
                <a:moveTo>
                  <a:pt x="282" y="6139"/>
                </a:moveTo>
                <a:lnTo>
                  <a:pt x="564" y="6139"/>
                </a:lnTo>
                <a:lnTo>
                  <a:pt x="564" y="1841"/>
                </a:lnTo>
                <a:lnTo>
                  <a:pt x="848" y="1841"/>
                </a:lnTo>
                <a:lnTo>
                  <a:pt x="424" y="0"/>
                </a:lnTo>
                <a:lnTo>
                  <a:pt x="0" y="1841"/>
                </a:lnTo>
                <a:lnTo>
                  <a:pt x="282" y="1841"/>
                </a:lnTo>
                <a:lnTo>
                  <a:pt x="282" y="6139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200400" y="3886200"/>
            <a:ext cx="2133720" cy="990720"/>
            <a:chOff x="3200400" y="3886200"/>
            <a:chExt cx="2133720" cy="990720"/>
          </a:xfrm>
        </p:grpSpPr>
        <p:sp>
          <p:nvSpPr>
            <p:cNvPr id="54" name=""/>
            <p:cNvSpPr/>
            <p:nvPr/>
          </p:nvSpPr>
          <p:spPr>
            <a:xfrm>
              <a:off x="3200400" y="3886200"/>
              <a:ext cx="2133720" cy="9907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4022640" y="3916440"/>
              <a:ext cx="466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00400" y="4267080"/>
              <a:ext cx="213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4022640" y="4145040"/>
              <a:ext cx="395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00400" y="4572000"/>
              <a:ext cx="213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3718080" y="4602240"/>
              <a:ext cx="1006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p (g1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200400" y="1828800"/>
            <a:ext cx="2133720" cy="1523880"/>
            <a:chOff x="3200400" y="1828800"/>
            <a:chExt cx="2133720" cy="1523880"/>
          </a:xfrm>
        </p:grpSpPr>
        <p:sp>
          <p:nvSpPr>
            <p:cNvPr id="61" name=""/>
            <p:cNvSpPr/>
            <p:nvPr/>
          </p:nvSpPr>
          <p:spPr>
            <a:xfrm>
              <a:off x="3200400" y="1828800"/>
              <a:ext cx="2133720" cy="1523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00400" y="2133720"/>
              <a:ext cx="213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00400" y="2743200"/>
              <a:ext cx="213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00400" y="3048120"/>
              <a:ext cx="213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00400" y="2438280"/>
              <a:ext cx="213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3946680" y="1859040"/>
              <a:ext cx="701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1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3946680" y="2011320"/>
              <a:ext cx="7016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3352680" y="2468520"/>
              <a:ext cx="175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ip (r2), back to mai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3946680" y="2773440"/>
              <a:ext cx="701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 (r1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3946680" y="3078000"/>
              <a:ext cx="701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fp (r0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7848720" y="5029200"/>
            <a:ext cx="75960" cy="1447920"/>
            <a:chOff x="7848720" y="5029200"/>
            <a:chExt cx="75960" cy="1447920"/>
          </a:xfrm>
        </p:grpSpPr>
        <p:sp>
          <p:nvSpPr>
            <p:cNvPr id="72" name=""/>
            <p:cNvSpPr/>
            <p:nvPr/>
          </p:nvSpPr>
          <p:spPr>
            <a:xfrm>
              <a:off x="7924680" y="502920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48720" y="5029200"/>
              <a:ext cx="7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48720" y="6477120"/>
              <a:ext cx="7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"/>
          <p:cNvSpPr txBox="1"/>
          <p:nvPr/>
        </p:nvSpPr>
        <p:spPr>
          <a:xfrm>
            <a:off x="7375680" y="5508720"/>
            <a:ext cx="1438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evious Fr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334120" y="3200400"/>
            <a:ext cx="914400" cy="3048120"/>
            <a:chOff x="5334120" y="3200400"/>
            <a:chExt cx="914400" cy="3048120"/>
          </a:xfrm>
        </p:grpSpPr>
        <p:sp>
          <p:nvSpPr>
            <p:cNvPr id="77" name=""/>
            <p:cNvSpPr/>
            <p:nvPr/>
          </p:nvSpPr>
          <p:spPr>
            <a:xfrm>
              <a:off x="5715000" y="6248520"/>
              <a:ext cx="533520" cy="0"/>
            </a:xfrm>
            <a:prstGeom prst="line">
              <a:avLst/>
            </a:prstGeom>
            <a:ln w="12600">
              <a:solidFill>
                <a:srgbClr val="e8a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34120" y="3200400"/>
              <a:ext cx="380880" cy="0"/>
            </a:xfrm>
            <a:prstGeom prst="line">
              <a:avLst/>
            </a:prstGeom>
            <a:ln w="12600">
              <a:solidFill>
                <a:srgbClr val="e8a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15000" y="3200400"/>
              <a:ext cx="0" cy="3048120"/>
            </a:xfrm>
            <a:prstGeom prst="line">
              <a:avLst/>
            </a:prstGeom>
            <a:ln w="12600">
              <a:solidFill>
                <a:srgbClr val="e8a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6248520" y="49528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617220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58672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55627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36640" y="1881360"/>
            <a:ext cx="139716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 foo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 i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 j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turn i + j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oid mai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 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 = foo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13560" y="6141960"/>
            <a:ext cx="674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fp (r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352680"/>
            <a:ext cx="457560" cy="152640"/>
          </a:xfrm>
          <a:custGeom>
            <a:avLst/>
            <a:gdLst/>
            <a:ahLst/>
            <a:rect l="0" t="0" r="r" b="b"/>
            <a:pathLst>
              <a:path w="1271" h="424">
                <a:moveTo>
                  <a:pt x="0" y="140"/>
                </a:moveTo>
                <a:lnTo>
                  <a:pt x="0" y="282"/>
                </a:lnTo>
                <a:lnTo>
                  <a:pt x="889" y="282"/>
                </a:lnTo>
                <a:lnTo>
                  <a:pt x="889" y="424"/>
                </a:lnTo>
                <a:lnTo>
                  <a:pt x="1271" y="211"/>
                </a:lnTo>
                <a:lnTo>
                  <a:pt x="889" y="0"/>
                </a:lnTo>
                <a:lnTo>
                  <a:pt x="889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13560" y="5913360"/>
            <a:ext cx="62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p (r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689880" y="5440320"/>
            <a:ext cx="39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25780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689880" y="5303880"/>
            <a:ext cx="404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37339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765840" y="499896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4724280"/>
            <a:ext cx="914400" cy="0"/>
          </a:xfrm>
          <a:prstGeom prst="line">
            <a:avLst/>
          </a:prstGeom>
          <a:ln w="1260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689880" y="3916440"/>
            <a:ext cx="39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689880" y="3780000"/>
            <a:ext cx="404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46483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434340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40384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42900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765840" y="3475080"/>
            <a:ext cx="217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5840" y="3170160"/>
            <a:ext cx="217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3124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2895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613560" y="4694400"/>
            <a:ext cx="674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fp (r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613560" y="4389480"/>
            <a:ext cx="62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p (r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848720" y="3124080"/>
            <a:ext cx="75960" cy="1752840"/>
            <a:chOff x="7848720" y="3124080"/>
            <a:chExt cx="75960" cy="1752840"/>
          </a:xfrm>
        </p:grpSpPr>
        <p:sp>
          <p:nvSpPr>
            <p:cNvPr id="107" name=""/>
            <p:cNvSpPr/>
            <p:nvPr/>
          </p:nvSpPr>
          <p:spPr>
            <a:xfrm>
              <a:off x="7924680" y="3124080"/>
              <a:ext cx="0" cy="175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48720" y="3124080"/>
              <a:ext cx="7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48720" y="4876920"/>
              <a:ext cx="7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"/>
          <p:cNvSpPr txBox="1"/>
          <p:nvPr/>
        </p:nvSpPr>
        <p:spPr>
          <a:xfrm>
            <a:off x="7451640" y="3832200"/>
            <a:ext cx="13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urrent Fr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848720" y="1600200"/>
            <a:ext cx="75960" cy="1447920"/>
            <a:chOff x="7848720" y="1600200"/>
            <a:chExt cx="75960" cy="1447920"/>
          </a:xfrm>
        </p:grpSpPr>
        <p:sp>
          <p:nvSpPr>
            <p:cNvPr id="112" name=""/>
            <p:cNvSpPr/>
            <p:nvPr/>
          </p:nvSpPr>
          <p:spPr>
            <a:xfrm>
              <a:off x="7924680" y="160020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48720" y="1600200"/>
              <a:ext cx="7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48720" y="3048120"/>
              <a:ext cx="7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7680240" y="2155680"/>
            <a:ext cx="11127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ext Fr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oes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5440" y="1446120"/>
            <a:ext cx="150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urrent Fr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699160" y="6499080"/>
            <a:ext cx="1527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ternal Mem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9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971720" y="100080"/>
            <a:ext cx="6818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all/Return Mech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957320" y="1709640"/>
            <a:ext cx="683244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ach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 allocate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set of local regi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ach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turn deallocate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urrent set of local regi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ocal register sets (frames) stored in on-chip register 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gister cac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utomatically flu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9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971720" y="100080"/>
            <a:ext cx="6818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rocessor St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957320" y="1709640"/>
            <a:ext cx="683244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cess Controls (P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ithmetic Controls (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race Controls (TC, opt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lobal Registers (g0 - g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15 takes care of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ocal register frames stored in on-chip register 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9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971720" y="100080"/>
            <a:ext cx="6818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Interrupt Rec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57320" y="1709640"/>
            <a:ext cx="683244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960® Processors automatically save PC and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2438280"/>
            <a:ext cx="1752480" cy="335268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04080" y="5865840"/>
            <a:ext cx="18558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rupt St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External Memor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4572000"/>
            <a:ext cx="761760" cy="0"/>
          </a:xfrm>
          <a:prstGeom prst="line">
            <a:avLst/>
          </a:prstGeom>
          <a:ln w="1260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441972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411480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380988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350532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384960" y="2712960"/>
            <a:ext cx="1116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ptional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985160" y="4114800"/>
            <a:ext cx="738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p -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879640" y="4221000"/>
            <a:ext cx="2443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rrupt Stack St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f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308640" y="4875120"/>
            <a:ext cx="1233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ew Fr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061480" y="4570560"/>
            <a:ext cx="917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em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row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1880" y="5181480"/>
            <a:ext cx="228960" cy="914760"/>
          </a:xfrm>
          <a:custGeom>
            <a:avLst/>
            <a:gdLst/>
            <a:ahLst/>
            <a:rect l="0" t="0" r="r" b="b"/>
            <a:pathLst>
              <a:path w="636" h="2541">
                <a:moveTo>
                  <a:pt x="211" y="0"/>
                </a:moveTo>
                <a:lnTo>
                  <a:pt x="423" y="0"/>
                </a:lnTo>
                <a:lnTo>
                  <a:pt x="423" y="1778"/>
                </a:lnTo>
                <a:lnTo>
                  <a:pt x="636" y="1778"/>
                </a:lnTo>
                <a:lnTo>
                  <a:pt x="317" y="2541"/>
                </a:lnTo>
                <a:lnTo>
                  <a:pt x="0" y="1778"/>
                </a:lnTo>
                <a:lnTo>
                  <a:pt x="211" y="1778"/>
                </a:lnTo>
                <a:lnTo>
                  <a:pt x="211" y="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985160" y="3809880"/>
            <a:ext cx="738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p -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985160" y="3505320"/>
            <a:ext cx="738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p - 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5880" y="320040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985160" y="3200400"/>
            <a:ext cx="738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p -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61280" y="3246480"/>
            <a:ext cx="870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aved 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461280" y="3551400"/>
            <a:ext cx="870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aved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62920" y="38098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147080" y="3855960"/>
            <a:ext cx="62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9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71720" y="100080"/>
            <a:ext cx="6818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Reci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57320" y="1709640"/>
            <a:ext cx="683244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ve PC and AC from interrupt rec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ve current state of TC (option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ve current state of previous frame pointer (pf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ve current state of global registers (g0-g1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15 updated by pfp upon retu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xecute flushreg i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lushes registers sets in register cache to external 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store pfp to point to current frame of next t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store PC, AC, and TC (optional) for next t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C and AC updated by writing to interrupt rec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store global registers for next t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xecute return i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9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ode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 Johnson</dc:creator>
  <dc:description/>
  <dc:language>en-US</dc:language>
  <cp:lastModifiedBy>Tom Johnson</cp:lastModifiedBy>
  <cp:revision>0</cp:revision>
  <dc:subject>Programming hints on writing task-switching software on the 80960 microprocess.</dc:subject>
  <dc:title>Context Switching with the i960® Microprocessor</dc:title>
</cp:coreProperties>
</file>